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LASER.WAV" ContentType="audio/x-wav"/>
  <Override PartName="/ppt/media/image2.gif" ContentType="image/gif"/>
  <Override PartName="/ppt/media/zipdn102.wav" ContentType="audio/x-wav"/>
  <Override PartName="/ppt/media/explode.wav" ContentType="audio/x-wav"/>
  <Override PartName="/ppt/media/PROJCTOR.WAV" ContentType="audio/x-wav"/>
  <Override PartName="/ppt/media/camera.wav" ContentType="audio/x-wav"/>
  <Override PartName="/ppt/media/CHIMES.WAV" ContentType="audio/x-wav"/>
  <Override PartName="/ppt/media/WHOOSH.WAV" ContentType="audio/x-wav"/>
  <Override PartName="/ppt/media/gunsho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621-902C-4918-BB87-A27D68A5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A13-04F5-4AD9-BC46-E739246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888-C905-4DA6-BB31-DDD9ED5D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28B-BBDF-4756-A0D5-C85FAD38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87B-2B19-4832-8E15-F0C07A9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DB8-2A9D-44C4-844C-9D2366A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DC6-7495-4F8A-A0BA-34B57BA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E64-AF83-4CCC-9204-63113BDC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679-D240-4590-890A-58B9ACA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FE6-9AA4-4CCA-8811-1526BF7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B57-B31B-4CB0-A958-CFA8BEB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02B-A578-4864-9FF0-2A92526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85F-CA25-4AF1-A84D-DADF1313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2720" y="963720"/>
            <a:ext cx="506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you feel like it’s hard getting everything working toge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4040" y="5114880"/>
            <a:ext cx="47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l start focusing on one thing at a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7800" y="2857680"/>
            <a:ext cx="3200400" cy="400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54080" y="925560"/>
            <a:ext cx="2800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Tables to Organiz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data from Example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2670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From 1990 to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905120"/>
            <a:ext cx="8382240" cy="1396800"/>
            <a:chOff x="380880" y="1905120"/>
            <a:chExt cx="8382240" cy="1396800"/>
          </a:xfrm>
        </p:grpSpPr>
        <p:sp>
          <p:nvSpPr>
            <p:cNvPr id="51" name=""/>
            <p:cNvSpPr/>
            <p:nvPr/>
          </p:nvSpPr>
          <p:spPr>
            <a:xfrm>
              <a:off x="380880" y="1905120"/>
              <a:ext cx="838224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Year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970    1975    1980    1985    1990    199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otal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6269    6390    6011    7789    4859    44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Chang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             121    -379     1778   -2930    -37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2361960"/>
              <a:ext cx="83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2819160"/>
              <a:ext cx="83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1905120"/>
              <a:ext cx="180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412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7480" y="1905120"/>
              <a:ext cx="180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80880" y="33526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uring which 5-year period did the total passenger car production decrease the lea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715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70 to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800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uring which 5-year period did the total passenger car production increase the lea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Graphs to Organize Real-Lif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3. Draw a line graph to organize the data for Company C’s passenger car produ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2438280"/>
            <a:ext cx="3657600" cy="3657600"/>
            <a:chOff x="1143000" y="2438280"/>
            <a:chExt cx="3657600" cy="3657600"/>
          </a:xfrm>
        </p:grpSpPr>
        <p:sp>
          <p:nvSpPr>
            <p:cNvPr id="67" name=""/>
            <p:cNvSpPr/>
            <p:nvPr/>
          </p:nvSpPr>
          <p:spPr>
            <a:xfrm>
              <a:off x="1143000" y="33526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3000" y="36576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39625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42670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45720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3000" y="51814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3000" y="54864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57913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3000" y="3048120"/>
              <a:ext cx="3048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30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79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8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232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7240" y="2438280"/>
              <a:ext cx="30456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7180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6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60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27432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438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04920" y="2819520"/>
            <a:ext cx="10666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6095880"/>
            <a:ext cx="472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75    80    85    90   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343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8680" y="3930480"/>
            <a:ext cx="504720" cy="290520"/>
          </a:xfrm>
          <a:custGeom>
            <a:avLst/>
            <a:gdLst/>
            <a:ahLst/>
            <a:rect l="l" t="t" r="r" b="b"/>
            <a:pathLst>
              <a:path w="318" h="183">
                <a:moveTo>
                  <a:pt x="0" y="183"/>
                </a:moveTo>
                <a:lnTo>
                  <a:pt x="31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98920"/>
            <a:ext cx="512640" cy="272880"/>
          </a:xfrm>
          <a:custGeom>
            <a:avLst/>
            <a:gdLst/>
            <a:ahLst/>
            <a:rect l="l" t="t" r="r" b="b"/>
            <a:pathLst>
              <a:path w="323" h="172">
                <a:moveTo>
                  <a:pt x="0" y="172"/>
                </a:moveTo>
                <a:lnTo>
                  <a:pt x="323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4120" y="3151080"/>
            <a:ext cx="525600" cy="409680"/>
          </a:xfrm>
          <a:custGeom>
            <a:avLst/>
            <a:gdLst/>
            <a:ahLst/>
            <a:rect l="l" t="t" r="r" b="b"/>
            <a:pathLst>
              <a:path w="331" h="258">
                <a:moveTo>
                  <a:pt x="0" y="258"/>
                </a:moveTo>
                <a:lnTo>
                  <a:pt x="331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27480" y="3209760"/>
            <a:ext cx="544320" cy="1206720"/>
          </a:xfrm>
          <a:custGeom>
            <a:avLst/>
            <a:gdLst/>
            <a:ahLst/>
            <a:rect l="l" t="t" r="r" b="b"/>
            <a:pathLst>
              <a:path w="343" h="760">
                <a:moveTo>
                  <a:pt x="343" y="7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9560" y="4435560"/>
            <a:ext cx="486000" cy="117360"/>
          </a:xfrm>
          <a:custGeom>
            <a:avLst/>
            <a:gdLst/>
            <a:ahLst/>
            <a:rect l="l" t="t" r="r" b="b"/>
            <a:pathLst>
              <a:path w="306" h="74">
                <a:moveTo>
                  <a:pt x="306" y="7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2860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uring which 5-year period did Company C’s passenger car production decrease the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114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85 to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Graphs to Organize Real-Lif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4. Draw a line graph to organize the data for Company B’s passenger car produ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2438280"/>
            <a:ext cx="3657600" cy="3657600"/>
            <a:chOff x="1143000" y="2438280"/>
            <a:chExt cx="3657600" cy="3657600"/>
          </a:xfrm>
        </p:grpSpPr>
        <p:sp>
          <p:nvSpPr>
            <p:cNvPr id="110" name=""/>
            <p:cNvSpPr/>
            <p:nvPr/>
          </p:nvSpPr>
          <p:spPr>
            <a:xfrm>
              <a:off x="1143000" y="33526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36576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39625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2670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45720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51814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54864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7913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3048120"/>
              <a:ext cx="3048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28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74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232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7240" y="2438280"/>
              <a:ext cx="30456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16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62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911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60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27432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2438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920" y="2819520"/>
            <a:ext cx="10666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6095880"/>
            <a:ext cx="472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75    80    85    90   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4343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760" y="3579840"/>
            <a:ext cx="485640" cy="272880"/>
          </a:xfrm>
          <a:custGeom>
            <a:avLst/>
            <a:gdLst/>
            <a:ahLst/>
            <a:rect l="l" t="t" r="r" b="b"/>
            <a:pathLst>
              <a:path w="306" h="172">
                <a:moveTo>
                  <a:pt x="0" y="0"/>
                </a:moveTo>
                <a:lnTo>
                  <a:pt x="306" y="17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20760" y="3949560"/>
            <a:ext cx="486000" cy="525600"/>
          </a:xfrm>
          <a:custGeom>
            <a:avLst/>
            <a:gdLst/>
            <a:ahLst/>
            <a:rect l="l" t="t" r="r" b="b"/>
            <a:pathLst>
              <a:path w="306" h="331">
                <a:moveTo>
                  <a:pt x="0" y="0"/>
                </a:moveTo>
                <a:lnTo>
                  <a:pt x="306" y="331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124160"/>
            <a:ext cx="485640" cy="324000"/>
          </a:xfrm>
          <a:custGeom>
            <a:avLst/>
            <a:gdLst/>
            <a:ahLst/>
            <a:rect l="l" t="t" r="r" b="b"/>
            <a:pathLst>
              <a:path w="306" h="204">
                <a:moveTo>
                  <a:pt x="0" y="204"/>
                </a:moveTo>
                <a:lnTo>
                  <a:pt x="30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6560" y="4164120"/>
            <a:ext cx="485640" cy="271440"/>
          </a:xfrm>
          <a:custGeom>
            <a:avLst/>
            <a:gdLst/>
            <a:ahLst/>
            <a:rect l="l" t="t" r="r" b="b"/>
            <a:pathLst>
              <a:path w="306" h="171">
                <a:moveTo>
                  <a:pt x="306" y="17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8640" y="4280040"/>
            <a:ext cx="486000" cy="117360"/>
          </a:xfrm>
          <a:custGeom>
            <a:avLst/>
            <a:gdLst/>
            <a:ahLst/>
            <a:rect l="l" t="t" r="r" b="b"/>
            <a:pathLst>
              <a:path w="306" h="74">
                <a:moveTo>
                  <a:pt x="306" y="0"/>
                </a:moveTo>
                <a:lnTo>
                  <a:pt x="0" y="7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uring which 5-year period did Company C’s passenger car production increase the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14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80 to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6T12:38:46Z</dcterms:modified>
  <cp:revision>32</cp:revision>
  <dc:subject/>
  <dc:title>No Slide Title</dc:title>
</cp:coreProperties>
</file>